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37A3-4F2C-4499-B31B-BC782EBA5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50EA-E62B-4397-B4E8-1F32223F3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E23AF-5399-4594-9C3D-2868B917C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FF663-F0A0-4339-A952-F0054F4C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9DFA5-CB4B-4CE8-8186-C9C299BAA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74B36-E799-4AFF-BC3D-04EBF1B46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FCAEE-7D75-4C2C-969B-0BD4B90D8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0517F-7494-4287-A63D-961AA922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6167A-9438-452F-91D9-0B36B4F7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B665-CE0A-4EE0-A55E-A9241E67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4D31-210B-448F-972C-A3DECAC2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5C92-90DD-4615-B811-B49BC775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C8FF-4508-4BDD-8F55-BE0B37B7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69DE2-2887-4C4E-AFCB-F20DD8A3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C25EB-7C0F-402B-8DB6-15CCD0A7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3A83E-9844-43B4-AC68-2DB041A9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3E13-8686-4C1F-AB32-99D020E6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78651-8278-4B8C-BAF5-2CCA7D2DA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A5594-319E-404D-A7AE-1AFA22472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8F36B-6796-42A9-8966-14A7AED8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8C3C1-AD49-427F-8D8C-D87FE826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C5A0E-905A-430B-AAFD-E3612762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D137C-7C2D-4B19-A628-39D8B2E0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EA06C-1423-47F8-AD02-E7379A3D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1C092-964A-43B6-A0C5-56D82D3A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DE7F3-A393-4141-8BC6-A9DD58D8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1CC8-AF35-48A5-A3F5-43BEC21855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4084-047F-4E49-90F2-E5AD999EF0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.S. Policies Affecting Food and Agricultural Marketing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lter J. Armbru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nald D. Knut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1970-1990: Some regulations were eased and others were modifie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taggers Rail Act of 1980 gave railroads more flexibility in competing for traffi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hibitions against commodity options trading were lifted in 1982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rketing orders came under increased scrutin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r fees were instituted for USDA grading servic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1990-2010: New challenges arose for marketing progra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w food safety problems aro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mand for organic and locally grown foods expand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cerns about concentration recurr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datory price reporting was introduced for livestoc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rketing orders and cooperatives were questioned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future of food and agricultural marketing programs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ght federal budgets will constrain progra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nges in communication technology will continue to impact marke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od production, processing, and distribution technologies will continue to evolv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venting chronic and acute food borne disease will become more challeng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centration will be a continuing concer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Chapter 3: A History of Government’s Role in the Food and Agricultural Marketing System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ichard Heif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Date Placeholder 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ntroduction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st programs have addressed failures in competition and information failur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etition fails when one or a few firms are able to distort prices to their advantag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rket news, grades and standards, and food safety regulations address information failur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nges in technology, tastes, and marketing practices require programs to chang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1880-1900:  Regulation of competition began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Interstate Commerce Act of 1887 was Congress’ first exercise of its Constitutional authority to regulate commerce between the stat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herman Antitrust Act of 1890 prohibited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ticompetitive combinations or coordin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ticompetitive practices and exclusionary conduct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1900-1920: Food safety programs were launched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Meat Inspection Act of 1906 required inspection of meats entering interstate and foreign commer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ure Food and Drug Act of 1906 prohibited ingredients that substituted for food, concealed damage, or posed a health hazard. Labeling could not be false and dangerous ingredients had to be listed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1910-1920: USDA market news and grading services began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rket news reporting began in 1915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at grade standards were developed over the next decad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gress passed three laws in 1916 calling for the development of grades and standards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Grain Standards Ac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Cotton Futures Ac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Standard Fruit and Vegetable Containers Ac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1920-1940: New programs protected &amp; empowered farmers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921 Packers and Stockyards 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922 Capper-Volstead 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930 Perishable Agricultural Commodities 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936 Commodity Exchange 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937 The Agricultural Marketing Agreements Act authorized marketing ord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w laws strengthened and expanded the use of federal grades and standard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1930-1970: Food safety regulations were expande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lerances for poisonous substances were established and factory inspection authoriz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w laws tightened controls on chemicals in foods, limited pesticide residues, required makers of new additives to establish safety, and prohibited carcinogen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quired labeling of consumer products for content, identity, and source was establish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1940-1980: Marketing programs evolved further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Agricultural Marketing Act of 1946 reinvigorated marketing researc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iform milk pricing formulas were established nationwide in 1960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Farmer-to-Consumer Direct Marketing Act was passed in 1976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utures trading regulation moved from USDA to the CFTC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3T03:39:48Z</dcterms:created>
  <dc:creator>Walt</dc:creator>
  <dc:description/>
  <dc:language>en-US</dc:language>
  <cp:lastModifiedBy>Walt</cp:lastModifiedBy>
  <dcterms:modified xsi:type="dcterms:W3CDTF">2012-06-06T00:32:57Z</dcterms:modified>
  <cp:revision>41</cp:revision>
  <dc:subject/>
  <dc:title>U.S. Policies Affecting Food and Agricultural Marketing</dc:title>
</cp:coreProperties>
</file>